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F67-871E-4C84-B7A2-B55A377A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71A-EA8B-402F-A2D7-1F158DAC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BB4-B7F2-4F47-9579-174D579F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36C-7EEE-4175-ABAB-B38AF053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A6C-D3CF-420F-9714-D53E0DDC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1E4-EADA-49E4-B332-D8EDE2DE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D6B-EC44-482E-95B6-4FEADDEC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2E4-A09B-4BD8-B935-FA68554A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136-85D4-44B3-891E-DFA34BC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4BE-3DBF-4F58-A320-C6A45D84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B94-8F21-430B-9EB9-45EF9DF2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99F-6427-4BEB-B84E-80F8606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70A4-9219-4B77-BD16-B7B8FC0A1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143000" y="1219320"/>
            <a:ext cx="71629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219320" y="15238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371600" y="19810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295280" y="2057400"/>
            <a:ext cx="6477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6248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od id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762120" y="1447920"/>
            <a:ext cx="73911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762120" y="990720"/>
            <a:ext cx="7924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reall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nt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990720"/>
            <a:ext cx="69343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t’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19320" y="1066680"/>
            <a:ext cx="67816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2 way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38080" y="1143000"/>
            <a:ext cx="74678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have H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d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ul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219320" y="990720"/>
            <a:ext cx="6858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have stuf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d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914400"/>
            <a:ext cx="7467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oesn’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est (speak to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rry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can’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rry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’m busy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114300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go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838080" y="83808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t’s go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762120" y="990720"/>
            <a:ext cx="7619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’d like to go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k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com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600200" y="1828800"/>
            <a:ext cx="5715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can g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the park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838080" y="91440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you want to g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the par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14400" y="1219320"/>
            <a:ext cx="68580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I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p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95280" y="1219320"/>
            <a:ext cx="67057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066680" y="14479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447920"/>
            <a:ext cx="7162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6553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am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ve a pic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14400" y="914400"/>
            <a:ext cx="74674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are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 to the zo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990720" y="1219320"/>
            <a:ext cx="73911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ndow sho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are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tch a g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62120" y="990720"/>
            <a:ext cx="7772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y are going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 a pl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990720" y="121932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li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143000" y="106668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rang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219320" y="114300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’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066680" y="914400"/>
            <a:ext cx="7391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-ce q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va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 vas f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week-e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52280" y="3808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rrang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e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estion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ané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 vas faire quo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066680" y="274320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i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t-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the caf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tim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838080" y="1676520"/>
            <a:ext cx="7772400" cy="38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whom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609480" y="114300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ie thea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143000" y="1143000"/>
            <a:ext cx="7238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Pierre’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front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v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a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066680" y="838080"/>
            <a:ext cx="7467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ie thea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838080" y="838080"/>
            <a:ext cx="754380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the Tuile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way sto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no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685800" y="8380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r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99072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mo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dnigh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838080" y="1066680"/>
            <a:ext cx="76201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rter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752480" y="2590920"/>
            <a:ext cx="5410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3h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838080" y="137160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ndredi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914400" y="990720"/>
            <a:ext cx="76201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he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Mar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14400" y="11430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a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us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219320" y="160020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mo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igh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w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219320" y="1143000"/>
            <a:ext cx="69339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 to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tur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371600" y="1295280"/>
            <a:ext cx="64771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esd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uch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066680" y="1066680"/>
            <a:ext cx="72392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wi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0292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le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rcRect l="0" t="28778" r="0" b="14151"/>
          <a:stretch/>
        </p:blipFill>
        <p:spPr>
          <a:xfrm>
            <a:off x="1295280" y="1219320"/>
            <a:ext cx="6753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523880" y="1752480"/>
            <a:ext cx="57150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7" name="Picture 4" descr="img422"/>
          <p:cNvPicPr/>
          <p:nvPr/>
        </p:nvPicPr>
        <p:blipFill>
          <a:blip r:embed="rId1"/>
          <a:stretch/>
        </p:blipFill>
        <p:spPr>
          <a:xfrm>
            <a:off x="1828800" y="914400"/>
            <a:ext cx="5486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295280" y="1828800"/>
            <a:ext cx="6324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9" name="Picture 3" descr="img424"/>
          <p:cNvPicPr/>
          <p:nvPr/>
        </p:nvPicPr>
        <p:blipFill>
          <a:blip r:embed="rId1"/>
          <a:stretch/>
        </p:blipFill>
        <p:spPr>
          <a:xfrm>
            <a:off x="1676520" y="990720"/>
            <a:ext cx="54864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828800" y="175248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li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go hors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k ri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1523880" y="770040"/>
            <a:ext cx="5639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1295280" y="3962520"/>
            <a:ext cx="647712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s verbe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"ER"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uloi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vit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l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utu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udi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/tu/i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us/vous/il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'étudie/tu étudies/il étud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us étudions/ v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étudiez/ils étudi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3000" y="1371600"/>
            <a:ext cx="67057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03-08T17:17:08Z</dcterms:modified>
  <cp:revision>48</cp:revision>
  <dc:subject/>
  <dc:title>No Slide Title</dc:title>
</cp:coreProperties>
</file>